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BE84F-57E5-47E6-BC8C-34BE77958D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03130-20D2-4B30-A440-B11D9B14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FE310-0768-4503-9215-0CB1E07B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65B67-6868-4D2D-9001-8543BF79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82D14-FAF3-478B-85FC-DB1DBABA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410A6-4D5E-46E5-B0EC-B7B8B83C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F92D1-D86B-44F3-B988-7261B1B7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9B485-9FE0-4AD3-92EE-DF987F81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107FA-BEA7-489F-90EE-B971F970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D6FDE-1E1B-4635-B92A-BBF607A5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EBA12-BEC5-4AC4-AFE7-DF9632013E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0F16A-92A2-443A-B851-CB377DCA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D4BCF-BA36-4A4B-A950-C6B0A0E0BB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11258-0F0A-4EC2-8421-49315C5D48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F031D-BB32-4A98-B807-3DBFC5FE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976CC-02E4-4237-9D2B-05EAB634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5A6C6-17F9-44F8-AD6D-34A3F680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F62CD-C77A-4A23-BFD1-B3178E36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3BE97-D4C1-46AA-9057-B605FB9C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1D4B7-5DE4-45FC-A2DC-92A82C47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8D214-08F1-401D-866A-6CB266D6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10941-CE8F-4978-AE0B-1D36394F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69C08-35B8-4288-8796-C6E92AF8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C86C9-DA52-4D24-B88F-7C181291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D80D5-F670-4129-B0DD-DFA1F8F5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5F76F-E4B8-4649-A5A9-36055E2FE4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2148-F3B5-46E8-9A12-7EBB5C06CE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A1C8-0A15-4889-8BF2-153D2FB1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EE53-563C-4CDA-A46A-37546F84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5904-515D-4755-9C8F-D443A7A7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E94C-4D86-4C13-8500-3A05A8F3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5B293-61C2-49E5-B1C9-A691E713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ED4F-953D-4F0F-AE36-ECCFBA0C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BC50-0CC3-43BD-BBB6-8BE54195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A807-0AAB-40B1-8584-0837843A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A153-5657-4412-9E35-FD8AF607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269C-B772-4E70-8514-29F8EA21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6DE3-B6EE-4CFD-ABE8-33A93E26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743B-96E7-4921-B43B-7AD62F7FCB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4B4D66-762B-4D8E-AF57-34997BA629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FFAA0-B37E-41EC-A157-4D642460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67520F-A933-4C20-92C4-5BC76D26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1FE81-70A2-4B15-9449-8BBC3F9F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78BE1-A447-457A-90D4-442B6674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FFD3D-2F62-4D80-B536-9D349F83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E1424-5769-40F1-9058-2F1AB5C4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6CE427-0EFA-4579-87E8-FDE89C7E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740F99-0A0A-4B7E-B1C0-E05A7A3D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CC1283-EB43-4A44-A3F6-9B907B37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4B3D0-A27F-4142-963A-E06CF931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6132A-6480-4BC8-8CA6-D6288F33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897D4-5AEF-4F4B-AE13-4070E1ED1E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2146E3-344C-423B-9421-648F042A45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8ABE3-2424-420A-BBEF-726DCBA0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3B4D34-1752-42CA-B19E-818F2936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422953-07F2-42B2-A159-F8CE7167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33F712-BFFD-4110-A6DF-E4B0A6EF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7B99B4-F463-452F-8D51-98AE29D7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963DB1-6F56-47A5-9106-ACF5C4CA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6B3DB8-45BC-4B6F-B9AE-6E1F029B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CE0438-46A4-47C3-AE4A-5D470DC0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01DB32-0141-4A31-8D7E-A918F07E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5B5B26-95CC-4007-9013-9615B930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12E59F-D3CF-43FE-9386-06B028B9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23E6F-27AC-4D1B-BCF3-4E24DC3B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49EAF6-89B4-418B-9BC9-CC3A4198FC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4D7C8-C242-463E-8A64-3D2AD428EE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16DEA-6E04-46E4-822B-7465EC8F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D39C1-4C89-4824-A9B4-AA0690FF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DCF42-0467-4F48-B703-A5597FE0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416EE-B657-414A-9301-4F3BE09D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C1094-FB64-4582-8710-142178D3D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16FE8-272F-45C7-811F-B684D883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BB4D2-6C5A-42FF-B316-31EF0D49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52429-8FA1-4A49-A1E4-A75397FC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438D2-B75C-4A60-8C20-07E1F6E0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FDAB9-1F14-4592-AFB8-A30B503A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75FA8-AF5F-463D-AE5F-23D896B8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9E78C-7782-4BA1-843D-8926F490B6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111C43-06E7-4519-A3D0-5CEBD4CBB4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836B4D-19E9-4C48-B953-7695E6D5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47DB8F-7395-41D4-AE52-846FE305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85517D-81E9-442F-87AD-10CD3203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E7D90-1101-41CD-A7D1-A0858624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518AC9-7919-4BBB-8622-54617110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F613E2-8835-437B-93B6-4546D4B6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AECC7-615E-444B-A43A-88CB81B4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C84BFC-6420-4F0E-9CC6-3DD98A35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851D99-BD05-4E1C-8B71-66AF432F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ECD628-2A45-47D5-BB6A-14AE998B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D0379-7F26-4BB9-ABEE-65F0077F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4C0897-0808-4063-A357-3E18DB2F95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BE6E21-2A0F-4F36-9795-53D3002CCC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F936DF-6FBC-4D4D-9571-8464EA6A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08B186-E9EB-43EA-97AE-8426C14F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38C23F-2226-4A76-A751-4FDB721F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5D8B41-BA50-4FEC-97C6-6DC05FBD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F2232-C5B7-4C2C-AD65-D5B041EF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281160"/>
            <a:ext cx="868500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C2D006-E43A-4BEE-B233-5A3A77F5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5BCC28-68A6-4030-80AB-3332469E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98631B-35F4-42F0-9715-5C71C675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D14357-1CD0-47E4-9266-77C4F90C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1F5457-92BB-4031-A52F-5804D077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7662CB-77FF-4727-9581-ABA8AAD9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ED905C-253E-4803-A469-C81EFA95A7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D8DA0-1B9B-4A20-A959-D227B13160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C1746-2D00-44E2-904F-CAF300CB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3D8EA-C765-4F69-A5AC-070BE1AF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763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6477120"/>
            <a:ext cx="7603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CDFB46-7E15-4E11-8CFC-619072939F9A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2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506520" y="5340240"/>
            <a:ext cx="8642160" cy="22320"/>
            <a:chOff x="506520" y="5340240"/>
            <a:chExt cx="8642160" cy="2232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1594CBC-BCFE-4650-BA2C-E9AFD3447CF9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3520"/>
            <a:ext cx="757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5E57DBE-B1E4-49CD-B07B-04A7E7ECA032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506520" y="3432240"/>
            <a:ext cx="8642160" cy="22320"/>
            <a:chOff x="506520" y="3432240"/>
            <a:chExt cx="8642160" cy="22320"/>
          </a:xfrm>
        </p:grpSpPr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BDBF107-09EC-450B-85C5-A37021EA8BA9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506520" y="6010200"/>
            <a:ext cx="8642160" cy="23760"/>
            <a:chOff x="506520" y="6010200"/>
            <a:chExt cx="8642160" cy="23760"/>
          </a:xfrm>
        </p:grpSpPr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21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C03FD65-4EA9-4075-B100-5766940B5BFF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91F1B6B-70F2-4411-AF02-E003EF71D8AD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506520" y="5840280"/>
            <a:ext cx="8642160" cy="22320"/>
            <a:chOff x="506520" y="5840280"/>
            <a:chExt cx="8642160" cy="22320"/>
          </a:xfrm>
        </p:grpSpPr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283631F-7D86-463F-AA8B-FFD486B96649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7EA769D-777D-499F-A355-AED75B5CBAB9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281160"/>
            <a:ext cx="868500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6476760"/>
            <a:ext cx="760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5EA2693-6D50-45FE-9C2D-BD00065DE68E}" type="slidenum">
              <a:rPr b="0" lang="ru-RU" sz="1200" spc="-1" strike="noStrike">
                <a:solidFill>
                  <a:srgbClr val="d38e27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4143240" y="3286080"/>
            <a:ext cx="43578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полнила творческая группа обучающихся 2б, 3а классов. МБОУ города Астрахани «СОШ №26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ководитель: учитель начальных классов Замочникова А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706320" y="493560"/>
            <a:ext cx="7956720" cy="28720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428760" y="2857680"/>
            <a:ext cx="3857400" cy="3643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352520" y="79200"/>
            <a:ext cx="6438960" cy="1256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071720" y="1643040"/>
            <a:ext cx="70722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страхань, особенно в Трусовском районе, много бездомных соба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1352520" y="152280"/>
            <a:ext cx="6438960" cy="12556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714240" y="1500120"/>
            <a:ext cx="778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проблемы бездомных собак в городе и возможных путей её  реш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857160" y="714240"/>
            <a:ext cx="7620120" cy="5362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143000" y="142920"/>
            <a:ext cx="700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оциологический опрос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8" name=""/>
          <p:cNvCxnSpPr/>
          <p:nvPr/>
        </p:nvCxnSpPr>
        <p:spPr>
          <a:xfrm flipH="1">
            <a:off x="356400" y="641520"/>
            <a:ext cx="1429560" cy="135936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triangle" w="med"/>
          </a:ln>
        </p:spPr>
      </p:cxnSp>
      <p:cxnSp>
        <p:nvCxnSpPr>
          <p:cNvPr id="409" name=""/>
          <p:cNvCxnSpPr/>
          <p:nvPr/>
        </p:nvCxnSpPr>
        <p:spPr>
          <a:xfrm flipH="1">
            <a:off x="3498480" y="2144880"/>
            <a:ext cx="1073520" cy="360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triangle" w="med"/>
          </a:ln>
        </p:spPr>
      </p:cxnSp>
      <p:cxnSp>
        <p:nvCxnSpPr>
          <p:cNvPr id="410" name=""/>
          <p:cNvCxnSpPr/>
          <p:nvPr/>
        </p:nvCxnSpPr>
        <p:spPr>
          <a:xfrm>
            <a:off x="6000480" y="1928520"/>
            <a:ext cx="1500840" cy="143064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triangle" w="med"/>
          </a:ln>
        </p:spPr>
      </p:cxnSp>
      <p:graphicFrame>
        <p:nvGraphicFramePr>
          <p:cNvPr id="411" name=""/>
          <p:cNvGraphicFramePr/>
          <p:nvPr/>
        </p:nvGraphicFramePr>
        <p:xfrm>
          <a:off x="214200" y="3000240"/>
          <a:ext cx="2745000" cy="385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3000240"/>
                    <a:ext cx="274500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3214800" y="3071880"/>
          <a:ext cx="2990880" cy="3533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14800" y="3071880"/>
                    <a:ext cx="29908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6072120" y="3143160"/>
          <a:ext cx="2786040" cy="3319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72120" y="3143160"/>
                    <a:ext cx="2786040" cy="33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706320" y="-208080"/>
            <a:ext cx="7583760" cy="21700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85840" y="1857240"/>
            <a:ext cx="864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могите Бездомной собаке!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аемые жители нашего горо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сех животных человеку ближе всего собака. И тем больнее видеть сейчас на улицах наших городов не только бродячих, но и брошенных своими хозяевами соб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бейте собаку - она убежит из д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е знакомым щенят, определите их в хорошие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стокое обращение с животными есть только первый опыт для такого же обращения с люд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407880" y="-12600"/>
            <a:ext cx="8454960" cy="17445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357120" y="1785960"/>
          <a:ext cx="8429760" cy="4400640"/>
        </p:xfrm>
        <a:graphic>
          <a:graphicData uri="http://schemas.openxmlformats.org/drawingml/2006/table">
            <a:tbl>
              <a:tblPr/>
              <a:tblGrid>
                <a:gridCol w="1857600"/>
                <a:gridCol w="2357280"/>
                <a:gridCol w="2106720"/>
                <a:gridCol w="2108160"/>
              </a:tblGrid>
              <a:tr h="12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собак на начало исслед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собак на конец исследов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68760" rIns="68760" tIns="1512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1 2014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1.2014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512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. Кутуз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512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512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520">
                <a:tc>
                  <a:txBody>
                    <a:bodyPr lIns="68760" rIns="68760" tIns="1512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512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.Зеленчук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512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512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920">
                <a:tc>
                  <a:txBody>
                    <a:bodyPr lIns="68760" rIns="68760" tIns="1512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512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. Гомель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512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512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68760" rIns="68760" tIns="1512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512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. 8 м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512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1512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353880" y="85680"/>
            <a:ext cx="8369280" cy="19749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500040" y="1928880"/>
            <a:ext cx="8143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узнали  почему собаки нападают на человека и объяснили это друг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расклеили листовки с призывом к местным жителям о бережном отношении к своим домашним живот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ли приблизительное количество бездомных собак в нашем районе , накормили и приютили некоторых из 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762120" y="1352520"/>
            <a:ext cx="7759440" cy="3792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1:42:37Z</dcterms:created>
  <dc:creator>Tatyana</dc:creator>
  <dc:description/>
  <dc:language>en-US</dc:language>
  <cp:lastModifiedBy>UserXP</cp:lastModifiedBy>
  <dcterms:modified xsi:type="dcterms:W3CDTF">2014-03-24T15:32:37Z</dcterms:modified>
  <cp:revision>31</cp:revision>
  <dc:subject/>
  <dc:title>Слайд 1</dc:title>
</cp:coreProperties>
</file>